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D894-9E37-4567-A058-2EF5A01FE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1CD9-FCCC-4889-9389-A0AFD4BB6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855-0D16-4AD0-A1E7-CDEC4A42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DC4-72CB-4FD3-AEE2-47592E64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CCE-F6A7-40F1-85A1-1C9366FE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E96-42A0-4BCF-966D-DBCA5775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513-79E9-4D3D-A3F5-6C8FC7F0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9FC-46CE-4B19-94C1-DFBBB5D7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9CF-EA2F-4D3E-A179-B417A17F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F74-72C7-4AC2-B9C6-3D9792C0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053-8E1D-426C-80CD-EE70A1BE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047-F6C2-46D4-B035-EA33D667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97D-4F10-41DD-9DA5-D7AA495B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BBD-CF09-41DB-B53E-EBAE7D2F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BB54-90C9-4ED8-9FE3-37288761E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F:\Advertising Pictures\Advertising Commericial 003.jpg"/>
          <p:cNvPicPr/>
          <p:nvPr/>
        </p:nvPicPr>
        <p:blipFill>
          <a:blip r:embed="rId1"/>
          <a:stretch/>
        </p:blipFill>
        <p:spPr>
          <a:xfrm>
            <a:off x="-136440" y="-182520"/>
            <a:ext cx="6994440" cy="9326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407200" y="21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0" y="8023320"/>
            <a:ext cx="762120" cy="9763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51" name="Text Box 9"/>
          <p:cNvSpPr/>
          <p:nvPr/>
        </p:nvSpPr>
        <p:spPr>
          <a:xfrm>
            <a:off x="1371600" y="914400"/>
            <a:ext cx="3048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dd some crun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o your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600200" y="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oadway"/>
              </a:rPr>
              <a:t>ORE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952880" y="8153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Opposites At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8"/>
          <p:cNvSpPr/>
          <p:nvPr/>
        </p:nvSpPr>
        <p:spPr>
          <a:xfrm>
            <a:off x="5867280" y="8610480"/>
            <a:ext cx="838440" cy="381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J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85800" y="86821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Visit us at </a:t>
            </a:r>
            <a:r>
              <a:rPr b="0" i="1" lang="en-US" sz="1200" spc="-1" strike="noStrike">
                <a:solidFill>
                  <a:srgbClr val="000000"/>
                </a:solidFill>
                <a:latin typeface="Impact"/>
              </a:rPr>
              <a:t>JASH inc. Ore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at Facebook.co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2:03:46Z</dcterms:created>
  <dc:creator>John Mordacq</dc:creator>
  <dc:description/>
  <dc:language>en-US</dc:language>
  <cp:lastModifiedBy>J Mordacq PC</cp:lastModifiedBy>
  <dcterms:modified xsi:type="dcterms:W3CDTF">2010-12-13T22:46:59Z</dcterms:modified>
  <cp:revision>19</cp:revision>
  <dc:subject/>
  <dc:title>PowerPoint Presentation</dc:title>
</cp:coreProperties>
</file>